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gunshot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4AD1-6EB9-4066-8C3C-A2EF9A7F6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C1B2-04D0-419E-A22A-A8A261FC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B0E8-B85C-46DC-BDCF-EAE02168E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DD6B-B46C-417A-A90E-C18B8AC7D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6CCC-1D3E-4FF0-AA63-828B0BEA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4D80-6B57-47AA-BA78-A59C8E86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13F3-8EFB-4286-9BA3-21D9FD96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54CB-A51B-4BCA-BD1C-ED6A5629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9BCD-8E06-4DB1-998B-D6330134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4EAE-0516-4EFE-BBF0-170A8D7A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2933-63E4-4BF6-BE01-947EABC6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FABF-6E2B-4BB3-8037-58E1F3ED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3918-D1C8-4765-8FBE-4E744680A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Doc2.doc" TargetMode="External"/><Relationship Id="rId3" Type="http://schemas.openxmlformats.org/officeDocument/2006/relationships/hyperlink" Target="file:///Class.doc" TargetMode="External"/><Relationship Id="rId4" Type="http://schemas.openxmlformats.org/officeDocument/2006/relationships/hyperlink" Target="file:///Break%20time.doc" TargetMode="External"/><Relationship Id="rId5" Type="http://schemas.openxmlformats.org/officeDocument/2006/relationships/audio" Target="../media/gunshot.wav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 rot="1987200">
            <a:off x="5562360" y="3123720"/>
            <a:ext cx="2133360" cy="1778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Comic Sans MS"/>
              </a:rPr>
              <a:t>B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Comic Sans MS"/>
              </a:rPr>
              <a:t>S.2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53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 Black"/>
                <a:hlinkClick r:id="rId2"/>
              </a:rPr>
              <a:t>Early in the mo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 Black"/>
                <a:hlinkClick r:id="rId3"/>
              </a:rPr>
              <a:t>During class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 Black"/>
                <a:hlinkClick r:id="rId4"/>
              </a:rPr>
              <a:t>Break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Black"/>
              </a:rPr>
              <a:t>Lun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Black"/>
              </a:rPr>
              <a:t>After lun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Black"/>
              </a:rPr>
              <a:t>Spo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Black"/>
              </a:rPr>
              <a:t>Pr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Black"/>
              </a:rPr>
              <a:t>Sup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Black"/>
              </a:rPr>
              <a:t>Bed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Black"/>
              </a:rPr>
              <a:t>Gro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0"/>
            <a:ext cx="708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A DAY IN LIFE AT APRED ND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5" name="gunshot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9:51:38Z</dcterms:created>
  <dc:creator>APRED</dc:creator>
  <dc:description/>
  <dc:language>en-US</dc:language>
  <cp:lastModifiedBy>APRED</cp:lastModifiedBy>
  <dcterms:modified xsi:type="dcterms:W3CDTF">2002-10-24T15:50:04Z</dcterms:modified>
  <cp:revision>14</cp:revision>
  <dc:subject/>
  <dc:title>ADAY IN LIFE AT APRED</dc:title>
</cp:coreProperties>
</file>